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A2F6-6D7D-4B29-9F1C-AAACED318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701B-D298-476F-BCFF-A9FD2A3A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4CE5-DB0A-4BF0-B7CE-4ACCF3AC1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F523-BBAA-4646-B86E-98AF89486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B01F4-634C-4B7B-A237-B0E4F8380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6949D-8EE1-4066-BBA1-D8138B15A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57FE1-F43E-4EA0-A71D-5A9270C79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6643F-D683-4FA3-8A05-9DC6BF66A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7D7DE-F357-4228-A755-AF8794B25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0E81D-441D-473C-8315-2ADF9FC8A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E8C65-1584-434D-A87C-7A28D17F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DB53-B4F8-4908-B0F0-7FD7163D3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6779B-DB20-45DF-8D97-9733AC7A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21125-98ED-42E5-8DC4-718949A2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2658D-0A8E-4BFA-9491-2814A67B9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7D304-3A6A-4AE7-88E8-DC87282A9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788D7-D933-4B82-9E53-27470DD01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E2AF-3D22-48A9-A253-6D8035934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96F9-489C-4DB0-B73D-805E06C2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8891-B55D-4CA9-A52F-B0C1E1ADE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C4B6-4275-4764-8DFB-F866D1EF4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22D5-3E68-4957-BEBD-B19E7B66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A5C4-4893-4764-B30B-791A3CAE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9079-95C3-4463-B7D9-940A60B4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E46C-C93D-4CE2-AEA1-79D3B596B5EC}" type="slidenum">
              <a:rPr b="0" lang="en-US" sz="1400" spc="-1" strike="noStrike">
                <a:solidFill>
                  <a:srgbClr val="ffff6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7400" y="2438280"/>
            <a:ext cx="6400800" cy="14479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79BC8-8336-4F29-9FF2-C90872D07F2C}" type="slidenum">
              <a:rPr b="0" lang="en-US" sz="1400" spc="-1" strike="noStrike">
                <a:solidFill>
                  <a:srgbClr val="ffff6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66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66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66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66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66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57400" y="2438280"/>
            <a:ext cx="6400800" cy="14479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66"/>
                </a:solidFill>
                <a:uFillTx/>
                <a:latin typeface="Handwriting - Dakota"/>
              </a:rPr>
              <a:t>Coraline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895480" y="4190760"/>
            <a:ext cx="5562720" cy="1600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Handwriting - Dakota"/>
              </a:rPr>
              <a:t>By: Neil Gaiman</a:t>
            </a:r>
            <a:r>
              <a:rPr b="0" lang="en-US" sz="2800" spc="-1" strike="noStrike">
                <a:solidFill>
                  <a:srgbClr val="ffff66"/>
                </a:solidFill>
                <a:latin typeface="Handwriting - Dakota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Handwriting - Dakota"/>
              </a:rPr>
              <a:t>	</a:t>
            </a: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Handwriting - Dakota"/>
              </a:rPr>
              <a:t>Presentation by: Erin O’Neill</a:t>
            </a: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Handwriting - Dakota"/>
              </a:rPr>
              <a:t>Reasons why you should read this book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Handwriting - Dakota"/>
              </a:rPr>
              <a:t>Page turner</a:t>
            </a: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Handwriting - Dakota"/>
              </a:rPr>
              <a:t>Adventure</a:t>
            </a: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Handwriting - Dakota"/>
              </a:rPr>
              <a:t>A girl who can outsmart others</a:t>
            </a: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562720" y="4191120"/>
            <a:ext cx="1280880" cy="1563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886200" y="1981080"/>
            <a:ext cx="1447920" cy="144792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Handwriting - Dakota"/>
              </a:rPr>
              <a:t>Read aloud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791320" y="1523880"/>
            <a:ext cx="3352680" cy="25448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2971800" y="1905120"/>
            <a:ext cx="2644920" cy="39621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5791320" y="4114800"/>
            <a:ext cx="3352680" cy="25448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0" y="2286000"/>
            <a:ext cx="2819520" cy="22716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1T13:30:51Z</dcterms:created>
  <dc:creator>cysd</dc:creator>
  <dc:description/>
  <dc:language>en-US</dc:language>
  <cp:lastModifiedBy>cysd</cp:lastModifiedBy>
  <dcterms:modified xsi:type="dcterms:W3CDTF">2008-11-21T14:15:41Z</dcterms:modified>
  <cp:revision>3</cp:revision>
  <dc:subject/>
  <dc:title>Coraline</dc:title>
</cp:coreProperties>
</file>